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033-0088-4A3F-A14C-2D6F2322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1FA-33B9-46AC-A84A-FF3E37BD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8A3-C9B7-4571-87AF-814B7F69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85F-B3D5-4DA2-96C1-4679384F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4E9F-1572-4221-B376-EA2798EE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1615-53B3-4D6C-B565-9E929560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1DA1-E5C1-4328-8919-E14C8869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4FCD-839C-4682-B774-4BA183FB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39A4-B92F-46B1-844B-4767788A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61E6-2DA8-4217-B740-2E6676D9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7DD8-B51D-4E48-BFE1-DFF2521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3CF-5C56-4208-BA1F-20AB90C7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AC9C-75DD-45E2-A1F4-5EE095A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A30F-09D0-4C61-8372-C03A45F1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4F87-5357-4F79-86E6-D90352A4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E13A-A1F9-410F-A639-2A341D03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3AA5-ED76-4F47-BE58-C0E36AAD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FA8-A23C-4A74-84C6-2C83394B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106-E9A1-422C-8D3D-983C422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886-73E6-4759-8F62-48804EC5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8A5-6700-4038-B416-5384EB99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478-E559-4C81-8E2E-890286C5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9AA-F63C-4128-870F-F8B713B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0FB-9203-42AD-B093-B23E12CA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5ECD-C57B-43CD-ACF3-967B4355E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0CE7-0F3D-4713-845E-C661F669A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Old English Text MT"/>
              </a:rPr>
              <a:t>Elizabethan Er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36232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Women in Shakespeare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Old English Text MT"/>
              </a:rPr>
              <a:t>Othell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between 1489 and 15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y BIG stretch of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 (Several of Shakespeare’s pl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incides with Elizabethan 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Old English Text MT"/>
              </a:rPr>
              <a:t>Why Ital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talian Rennascaince is the most prevelent and well known on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s between Venice and Tur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llo is a Gene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izabeth Elizabeth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19360" y="1371600"/>
            <a:ext cx="42670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zabeth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zabethan Era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33-16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Renaiss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Great explora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800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Old English Text MT"/>
              </a:rPr>
              <a:t>Women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Were considered inferior to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Fathers looked after daughters until they became wives, and if they couldn’t be a wife a male relative would watch over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Women were to be housewives and M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Were educated at this time, but no law, Medicine, or political jo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Old English Text MT"/>
              </a:rPr>
              <a:t>Sour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zabethan Women."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ueen Elizabeth I (1533-1603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Web. 04 May 2010. &lt;http://www.elizabethi.org/us/women/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Othello."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ree Study Guides for Shakespeare and Other Auth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Web. 04 May 2010. &lt;http://www.cummingsstudyguides.net/xOthello.html&gt;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Queen Elizabeth I Timeline."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story Timeli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Web. 04 May 2010. &lt;http://www.history-timelines.org.uk/people-timelines/06-queen-elizabeth-i-timeline.htm&gt;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0:33:24Z</dcterms:created>
  <dc:creator>KMM</dc:creator>
  <dc:description/>
  <dc:language>en-US</dc:language>
  <cp:lastModifiedBy>KMM</cp:lastModifiedBy>
  <dcterms:modified xsi:type="dcterms:W3CDTF">2010-05-06T12:08:06Z</dcterms:modified>
  <cp:revision>3</cp:revision>
  <dc:subject/>
  <dc:title>Slide 1</dc:title>
</cp:coreProperties>
</file>